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4DF5-56E9-47C3-9D2E-EFC9136E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AA4A-C843-4B13-A2EC-4EBB29917D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2761-019D-4A57-B09B-6694474CE0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FD69-C444-494E-8321-1258272F61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098E-D054-4E2B-AA62-2F4CEEDF6E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5304-026A-4385-A1F3-7182227EF8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8DDE-D9AA-4DD6-A532-9459A9F179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AA94-4CCB-4456-BE09-363FBD1441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7382-0C04-4379-9D24-0B135D9EDC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74F-BB74-40F5-84AA-F8DDFD64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E6B-950F-461B-AFF5-1187088C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F4A-3DF5-4C5D-BCD8-B7038779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7C9E-1B4F-469C-8348-57A7DA2D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D5A1-1FA6-4789-8DC1-B40D1B0C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7E79-1D91-47E3-8B6A-D6A79C08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8A37-D6A1-4E8E-AA61-B2B13063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2940-4F61-4F0A-AB93-CFFF4F07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01038-CD72-448B-841A-25CB66F2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1F89-5272-4CE2-AE32-BC05646E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1C68-31F5-4E35-A5CB-D2453751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1F8-E672-4A28-93FC-594DBE3D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BD73-7634-4ABD-B380-287E0950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B757-8ACC-4E40-88BA-BA5207B7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FAE1-DCB7-4DB2-A35E-85875F2F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3E2E-3D76-486F-A21C-3309C42C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6922-F328-4805-BB58-5E5AA067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0303-4F03-40A2-A747-EFC7897C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5E899-51E7-4163-8E93-BE1DDD26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D81C7-FDAC-4D3B-AC07-F8E2429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90D4-87FD-40C1-B18E-9F8DEAD3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B75B-53D5-4FF0-AB0A-4A418AC3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45C-C633-4532-A924-95BC6092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E404-7F74-4861-A92A-F036B95D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4CA34-B7BF-4DBB-BA16-5DD0BAEA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E6B01-38E6-457E-A475-B59F3B15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F5AD-2895-4104-938A-6328699B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99982-03D0-43EB-9240-5B6D43F1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4A607-0AD0-4738-876E-103FFE2E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8F5BC-756A-4AB2-ADB3-2B73CB47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57536-03AE-4A85-9E58-095E7DD7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12EF7-CB16-4C68-8883-6A37DD48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033F7-DC40-4B5E-BA8F-887DEB2E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06A-8E23-4719-926B-0D23019A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F2DF-CD4C-4D61-86D2-5DBAAE69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D8F6C-3B39-4071-A3E8-90691414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B59D2-6546-4075-8F98-2C9452E9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3A1B5-61B5-494C-847A-7D8B210D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3ED26-ED62-487C-AB01-0C206CC8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23E72-CF00-487F-A52A-431A7759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EB1BF-B455-4672-BFD9-CCBEC2B0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D77EC-DE6A-4EBE-95D4-2B8A859B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F61A4-6B8A-4C3D-80C6-A721E95C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FF15-C9FA-4E69-8E64-67BFC210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010-7654-4EE5-97C8-1E148221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90ED-0533-4A1E-91B2-5354C275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DCBC0-57DD-470F-A5A2-A4985263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AFC1C-24C7-4DCE-889E-989ECCDC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76B0-0E8D-4870-848D-49CA12AD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BD40-220D-4DCA-B13B-591B3FEA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957B-BDEE-46A0-BA86-2FC3D2AA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A8BAB-4A3D-4054-8DDA-2E2D353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2E702-93D7-424B-BE52-807757F3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DE565-F819-45AA-A246-EBC5D3F7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0526D-41C5-4ACF-B9D3-14D87300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9C9-467F-47C2-959A-1ADDFCE2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11441-C0C1-47E4-8ADD-176B2957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1D1D8-7515-4E1D-8DD2-B1E0DD10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04C2D-AC40-4D31-A07A-FA046491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76B80-58DD-47AF-92A4-07396EAA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51385-AFFB-4117-8592-F1C48E65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24DC-4D28-4468-9C91-C8F62B55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B8A40-37F7-4F90-969F-8FECE411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B0BE1-08B8-4A01-8339-E0A24CA8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9A9ED-36A0-429F-8CFD-B8291AA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B1A9D-B645-4551-A8C6-F9212DB6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B08-703E-4C26-904F-92524639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D482D-8D1D-4A6F-AF53-6463E29A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57765-BD62-4A54-9543-0F1C53A2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89F04-5C7B-450E-8AA1-755C4DC4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E0ED0-9ECA-4EE9-A895-2046FA01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BE31A-C661-4E76-AE47-664651FF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3E0C4-79C0-4691-BDFA-B8978695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23E29-530A-46DF-8B36-D34CF4ED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FAE9B-E9BD-4171-B195-F8D7953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9BD12-C740-412F-A07F-15790AAF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4B3CB-0823-4925-90BF-3863EB75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E6E6-892B-40AA-A5F3-B0F574B5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447F1-D1C6-4180-9896-C57268CD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B6C1F-73CF-4AD3-A39C-42277FAE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58911-908E-4702-99B4-A04040BE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52788-A912-4478-B052-B53E49150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807D6-5165-4604-9A4C-BE96DBC2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6F3-7D38-4F74-8C97-0F8F614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DF57-BD9E-4CB1-98F5-718C8C53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7CF3-7A02-4EC2-95DF-8511389F92A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A03B-418D-4030-8546-2D345150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84C6-308A-45C3-85EC-4D2C6985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8F93-D044-402C-838C-C73FC4270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A2EF-3275-4F16-A5F6-C1EFB0DED4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54C8-6B31-4FD7-ADD8-F02B6339D97A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hyperlink" Target="http://webquest.org/index.php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theragblog.blogspot.com/2009/01/american-public-opinion-bucks-israeli.html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image" Target="../media/image7.png"/><Relationship Id="rId9" Type="http://schemas.openxmlformats.org/officeDocument/2006/relationships/slide" Target="slide2.xml"/><Relationship Id="rId10" Type="http://schemas.openxmlformats.org/officeDocument/2006/relationships/slide" Target="slide3.xml"/><Relationship Id="rId11" Type="http://schemas.openxmlformats.org/officeDocument/2006/relationships/slide" Target="slide4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slide" Target="slide7.xml"/><Relationship Id="rId15" Type="http://schemas.openxmlformats.org/officeDocument/2006/relationships/hyperlink" Target="http://opinion-publica.wikispaces.com/Formaci&#243;n+de+la+Opini&#243;n+P&#250;blica" TargetMode="External"/><Relationship Id="rId16" Type="http://schemas.openxmlformats.org/officeDocument/2006/relationships/hyperlink" Target="http://www.tvolucion.com/noticieros/noticias-y-reportajes/042113/pena-nieto-lluvia-evento-extraordinario" TargetMode="External"/><Relationship Id="rId17" Type="http://schemas.openxmlformats.org/officeDocument/2006/relationships/hyperlink" Target="http://www2.esmas.com/noticierostelevisa/mexico/df/093373/ebrard-y-pena-nieto-hecho-extraordinario-lluvias-del-domingo" TargetMode="External"/><Relationship Id="rId18" Type="http://schemas.openxmlformats.org/officeDocument/2006/relationships/hyperlink" Target="http://www.tvolucion.com/noticieros/noticiero-con-joaquin-lopez-doriga/042109/lopez-doriga-07-septiembre-2009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2.xml"/><Relationship Id="rId9" Type="http://schemas.openxmlformats.org/officeDocument/2006/relationships/slide" Target="slide3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7.xml"/><Relationship Id="rId14" Type="http://schemas.openxmlformats.org/officeDocument/2006/relationships/image" Target="../media/image10.png"/><Relationship Id="rId15" Type="http://schemas.openxmlformats.org/officeDocument/2006/relationships/hyperlink" Target="http://www2.esmas.com/noticierostelevisa/mexico/df/093373/ebrard-y-pena-nieto-hecho-extraordinario-lluvias-del-domingo" TargetMode="External"/><Relationship Id="rId16" Type="http://schemas.openxmlformats.org/officeDocument/2006/relationships/hyperlink" Target="http://www.tvolucion.com/noticieros/noticiero-con-joaquin-lopez-doriga/042109/lopez-doriga-07-septiembre-2009" TargetMode="External"/><Relationship Id="rId17" Type="http://schemas.openxmlformats.org/officeDocument/2006/relationships/hyperlink" Target="http://www.tvolucion.com/noticieros/noticias-y-reportajes/042113/pena-nieto-lluvia-evento-extraordinario" TargetMode="External"/><Relationship Id="rId18" Type="http://schemas.openxmlformats.org/officeDocument/2006/relationships/hyperlink" Target="http://www.youtube.com/watch?v=y8D92in5SU0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Box 14"/>
          <p:cNvSpPr/>
          <p:nvPr/>
        </p:nvSpPr>
        <p:spPr>
          <a:xfrm>
            <a:off x="2819520" y="92376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ebQuest  1er pa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18"/>
          <p:cNvSpPr/>
          <p:nvPr/>
        </p:nvSpPr>
        <p:spPr>
          <a:xfrm>
            <a:off x="2819520" y="632448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asado en un formato extraído de </a:t>
            </a:r>
            <a:r>
              <a:rPr b="0" lang="en-US" sz="1400" spc="-1" strike="noStrike" u="sng">
                <a:solidFill>
                  <a:srgbClr val="0c0c0c"/>
                </a:solidFill>
                <a:uFillTx/>
                <a:latin typeface="Calibri"/>
                <a:hlinkClick r:id="rId7"/>
              </a:rPr>
              <a:t>The WebQuest P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Title 18" descr=""/>
          <p:cNvPicPr/>
          <p:nvPr/>
        </p:nvPicPr>
        <p:blipFill>
          <a:blip r:embed="rId8"/>
          <a:stretch/>
        </p:blipFill>
        <p:spPr>
          <a:xfrm>
            <a:off x="2664000" y="-6480"/>
            <a:ext cx="6486480" cy="85428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3"/>
          <p:cNvSpPr/>
          <p:nvPr/>
        </p:nvSpPr>
        <p:spPr>
          <a:xfrm>
            <a:off x="8001000" y="5996160"/>
            <a:ext cx="1143000" cy="57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Century Gothic"/>
              </a:rPr>
              <a:t>Fuente de la Imagen: ,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9"/>
              </a:rPr>
              <a:t>The Rag blo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20" descr=""/>
          <p:cNvPicPr/>
          <p:nvPr/>
        </p:nvPicPr>
        <p:blipFill>
          <a:blip r:embed="rId10"/>
          <a:stretch/>
        </p:blipFill>
        <p:spPr>
          <a:xfrm>
            <a:off x="3733920" y="1676520"/>
            <a:ext cx="4308480" cy="3889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14"/>
          <p:cNvSpPr/>
          <p:nvPr/>
        </p:nvSpPr>
        <p:spPr>
          <a:xfrm>
            <a:off x="2819520" y="7621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ebQuest  1er pa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Title 18" descr=""/>
          <p:cNvPicPr/>
          <p:nvPr/>
        </p:nvPicPr>
        <p:blipFill>
          <a:blip r:embed="rId7"/>
          <a:stretch/>
        </p:blipFill>
        <p:spPr>
          <a:xfrm>
            <a:off x="2664000" y="-6480"/>
            <a:ext cx="6486480" cy="85428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4"/>
          <p:cNvSpPr/>
          <p:nvPr/>
        </p:nvSpPr>
        <p:spPr>
          <a:xfrm>
            <a:off x="2895480" y="1600200"/>
            <a:ext cx="5867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0c0c0"/>
                </a:solidFill>
                <a:latin typeface="Lucida Bright"/>
              </a:rPr>
              <a:t>“</a:t>
            </a:r>
            <a:r>
              <a:rPr b="0" lang="es-ES" sz="1800" spc="-1" strike="noStrike">
                <a:solidFill>
                  <a:srgbClr val="c0c0c0"/>
                </a:solidFill>
                <a:latin typeface="Lucida Bright"/>
              </a:rPr>
              <a:t>La opinión pública necesita de tal forma los medios de comunicación para su expresión y conocimiento que, hoy día, es prácticamente imposible que exista sin ellos. El problema radica en saber si se trata de una mediación neutra, fiel, “reflejo de la opinión pública”, o si la mediación se convierte en mediatización, reflejo de los intereses de todas aquellas instancias que se ocultan detrás y que se convierten en “creadores” de la opinión pública. Los medios como tal no manipulan ni crean la opinión pública, sino aquellos actores que actúan a través de ellos: líderes, grupos de presión, élites políticas y poder en general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17 Rectángulo"/>
          <p:cNvSpPr/>
          <p:nvPr/>
        </p:nvSpPr>
        <p:spPr>
          <a:xfrm>
            <a:off x="2895480" y="56386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- Beatriz Mañas, La Formación de la Opinión Pública: Encuestas y Medios de 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8"/>
          <a:stretch/>
        </p:blipFill>
        <p:spPr>
          <a:xfrm>
            <a:off x="682560" y="3730680"/>
            <a:ext cx="2017800" cy="2560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4"/>
          <p:cNvSpPr/>
          <p:nvPr/>
        </p:nvSpPr>
        <p:spPr>
          <a:xfrm>
            <a:off x="2819520" y="5335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WebQuest  1er pa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Title 18" descr=""/>
          <p:cNvPicPr/>
          <p:nvPr/>
        </p:nvPicPr>
        <p:blipFill>
          <a:blip r:embed="rId7"/>
          <a:stretch/>
        </p:blipFill>
        <p:spPr>
          <a:xfrm>
            <a:off x="2664000" y="-6480"/>
            <a:ext cx="6486480" cy="854280"/>
          </a:xfrm>
          <a:prstGeom prst="rect">
            <a:avLst/>
          </a:prstGeom>
          <a:ln w="0">
            <a:noFill/>
          </a:ln>
        </p:spPr>
      </p:pic>
      <p:sp>
        <p:nvSpPr>
          <p:cNvPr id="350" name="18 Rectángulo"/>
          <p:cNvSpPr/>
          <p:nvPr/>
        </p:nvSpPr>
        <p:spPr>
          <a:xfrm>
            <a:off x="2819520" y="990720"/>
            <a:ext cx="60958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eer una nota y encontrar la forma en que se difundió por un medio de comunic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Ver tres videos y encontrar qué dice el medio respecto a un tema noticios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scribir una conclusión al respecto tomando como referencia la cl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5" descr="http://farm3.static.flickr.com/2284/2233711593_c43d8101f3_o.jpg"/>
          <p:cNvPicPr/>
          <p:nvPr/>
        </p:nvPicPr>
        <p:blipFill>
          <a:blip r:embed="rId8"/>
          <a:stretch/>
        </p:blipFill>
        <p:spPr>
          <a:xfrm>
            <a:off x="3352680" y="4038480"/>
            <a:ext cx="3353040" cy="2406600"/>
          </a:xfrm>
          <a:prstGeom prst="rect">
            <a:avLst/>
          </a:prstGeom>
          <a:ln w="0">
            <a:noFill/>
          </a:ln>
        </p:spPr>
      </p:pic>
      <p:sp>
        <p:nvSpPr>
          <p:cNvPr id="352" name="TextBox 15"/>
          <p:cNvSpPr/>
          <p:nvPr/>
        </p:nvSpPr>
        <p:spPr>
          <a:xfrm>
            <a:off x="0" y="5029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61616"/>
                </a:solidFill>
                <a:latin typeface="Arial"/>
              </a:rPr>
              <a:t>The City Project, Flickr.co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61616"/>
                </a:solidFill>
                <a:latin typeface="Arial"/>
              </a:rPr>
              <a:t>Civil rights activists free at the beach before the passage of the Civil Rights Act of 19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3" name="22 Conector recto de flecha"/>
          <p:cNvCxnSpPr/>
          <p:nvPr/>
        </p:nvCxnSpPr>
        <p:spPr>
          <a:xfrm>
            <a:off x="2362320" y="5334120"/>
            <a:ext cx="838800" cy="216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2"/>
          <p:cNvSpPr/>
          <p:nvPr/>
        </p:nvSpPr>
        <p:spPr>
          <a:xfrm>
            <a:off x="380880" y="133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dent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3"/>
          <p:cNvSpPr/>
          <p:nvPr/>
        </p:nvSpPr>
        <p:spPr>
          <a:xfrm>
            <a:off x="380880" y="990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Ta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 u="sng">
                <a:solidFill>
                  <a:srgbClr val="0c0c0c"/>
                </a:solidFill>
                <a:uFillTx/>
                <a:latin typeface="Calibri"/>
                <a:hlinkClick r:id="rId7" action="ppaction://hlinksldjump"/>
              </a:rPr>
              <a:t>Teacher Page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Title 13" descr=""/>
          <p:cNvPicPr/>
          <p:nvPr/>
        </p:nvPicPr>
        <p:blipFill>
          <a:blip r:embed="rId8"/>
          <a:stretch/>
        </p:blipFill>
        <p:spPr>
          <a:xfrm>
            <a:off x="5022720" y="-6480"/>
            <a:ext cx="4127760" cy="115884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12"/>
          <p:cNvSpPr/>
          <p:nvPr/>
        </p:nvSpPr>
        <p:spPr>
          <a:xfrm>
            <a:off x="533520" y="530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9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0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1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2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3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4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34 CuadroTexto"/>
          <p:cNvSpPr/>
          <p:nvPr/>
        </p:nvSpPr>
        <p:spPr>
          <a:xfrm>
            <a:off x="3574440" y="5486400"/>
            <a:ext cx="4719240" cy="7333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Ve los videos en el </a:t>
            </a:r>
            <a:r>
              <a:rPr b="0" lang="es-ES" sz="1400" spc="-1" strike="noStrike" u="sng">
                <a:solidFill>
                  <a:srgbClr val="0c0c0c"/>
                </a:solidFill>
                <a:uFillTx/>
                <a:latin typeface="Arial"/>
                <a:hlinkClick r:id="rId15"/>
              </a:rPr>
              <a:t>Wiki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y señala las diferencia qu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cuentres entre los anuncios de Peña Nie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y Ebrard que difunde Televisa (duración,imágenes, text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35 CuadroTexto"/>
          <p:cNvSpPr/>
          <p:nvPr/>
        </p:nvSpPr>
        <p:spPr>
          <a:xfrm>
            <a:off x="2860200" y="914400"/>
            <a:ext cx="4144320" cy="1310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isita </a:t>
            </a:r>
            <a:r>
              <a:rPr b="0" lang="es-ES" sz="1600" spc="-1" strike="noStrike" u="sng">
                <a:solidFill>
                  <a:srgbClr val="0c0c0c"/>
                </a:solidFill>
                <a:uFillTx/>
                <a:latin typeface="Arial"/>
                <a:hlinkClick r:id="rId16"/>
              </a:rPr>
              <a:t>es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sitio y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Resume brevemente lo que dice la entrev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tono se usa con el entrevist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espacio se otorga al entrevist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busca mediatizar esta noticia en los televiden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37 CuadroTexto"/>
          <p:cNvSpPr/>
          <p:nvPr/>
        </p:nvSpPr>
        <p:spPr>
          <a:xfrm>
            <a:off x="3392280" y="3733920"/>
            <a:ext cx="4461480" cy="16758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isita </a:t>
            </a:r>
            <a:r>
              <a:rPr b="0" lang="es-ES" sz="1600" spc="-1" strike="noStrike" u="sng">
                <a:solidFill>
                  <a:srgbClr val="0c0c0c"/>
                </a:solidFill>
                <a:uFillTx/>
                <a:latin typeface="Arial"/>
                <a:hlinkClick r:id="rId17"/>
              </a:rPr>
              <a:t>es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sitio y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lee y resume brevemente lo que dice la n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Observa cómo está acomodada visualmente la no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espacio se otorga a las personas que hace referencia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Cuál es el tono que se usa para referirse a uno y a otr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busca mediatizar en el lector la noticia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38 CuadroTexto"/>
          <p:cNvSpPr/>
          <p:nvPr/>
        </p:nvSpPr>
        <p:spPr>
          <a:xfrm>
            <a:off x="3089520" y="2362320"/>
            <a:ext cx="4193280" cy="13107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isita </a:t>
            </a:r>
            <a:r>
              <a:rPr b="0" lang="es-ES" sz="1600" spc="-1" strike="noStrike" u="sng">
                <a:solidFill>
                  <a:srgbClr val="0c0c0c"/>
                </a:solidFill>
                <a:uFillTx/>
                <a:latin typeface="Arial"/>
                <a:hlinkClick r:id="rId18"/>
              </a:rPr>
              <a:t>este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sitio y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Resume lo que dice la entrevista (a partir del min  24:2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tono se usa con el entrevist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espacio se otorga al entrevista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¿Qué busca mediatizar esta noticia en los televiden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39 CuadroTexto"/>
          <p:cNvSpPr/>
          <p:nvPr/>
        </p:nvSpPr>
        <p:spPr>
          <a:xfrm>
            <a:off x="4724280" y="6248520"/>
            <a:ext cx="3886200" cy="459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scribe una breve conclusión de lo aprendido sobre la formación de la 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362320" y="685800"/>
          <a:ext cx="6781680" cy="6172200"/>
        </p:xfrm>
        <a:graphic>
          <a:graphicData uri="http://schemas.openxmlformats.org/drawingml/2006/table">
            <a:tbl>
              <a:tblPr/>
              <a:tblGrid>
                <a:gridCol w="1614240"/>
                <a:gridCol w="2584440"/>
                <a:gridCol w="2583000"/>
              </a:tblGrid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tio 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umen de la no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l tono que se utiliz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ñalaiento espacio al entrevistad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 lo que se busca mediatiza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tio 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umen de la no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l tono que se utiliz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ñalaiento espacio al entrevistad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 lo que se busca mediatiza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tio 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umen de la no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 cómo se acomoda la not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l tono que se utiliza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ñalaiento espacio a entrevistad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scripción de lo que se busca mediatizar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tio 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umen de cada video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ferencias encontrada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ón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cribir  el análisis realizado en un Powepoint, junto  con una conclusión (al final) que señale los puntos aprendidos , explicados brevemente. Subir al Wiki el archivo como lo señale el maestro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lor 2 puntos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381" name="Title 14" descr=""/>
          <p:cNvPicPr/>
          <p:nvPr/>
        </p:nvPicPr>
        <p:blipFill>
          <a:blip r:embed="rId1"/>
          <a:stretch/>
        </p:blipFill>
        <p:spPr>
          <a:xfrm>
            <a:off x="5175360" y="-6480"/>
            <a:ext cx="397512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7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2"/>
          <p:cNvSpPr/>
          <p:nvPr/>
        </p:nvSpPr>
        <p:spPr>
          <a:xfrm>
            <a:off x="380880" y="133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dent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380880" y="990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Ta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 u="sng">
                <a:solidFill>
                  <a:srgbClr val="0c0c0c"/>
                </a:solidFill>
                <a:uFillTx/>
                <a:latin typeface="Calibri"/>
                <a:hlinkClick r:id="rId7" action="ppaction://hlinksldjump"/>
              </a:rPr>
              <a:t>Teacher Page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12"/>
          <p:cNvSpPr/>
          <p:nvPr/>
        </p:nvSpPr>
        <p:spPr>
          <a:xfrm>
            <a:off x="533520" y="530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8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9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0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1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2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3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Title 13" descr=""/>
          <p:cNvPicPr/>
          <p:nvPr/>
        </p:nvPicPr>
        <p:blipFill>
          <a:blip r:embed="rId14"/>
          <a:stretch/>
        </p:blipFill>
        <p:spPr>
          <a:xfrm>
            <a:off x="5022720" y="-6480"/>
            <a:ext cx="412776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14"/>
          <p:cNvSpPr/>
          <p:nvPr/>
        </p:nvSpPr>
        <p:spPr>
          <a:xfrm>
            <a:off x="2819520" y="1447920"/>
            <a:ext cx="58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 terminar de hacer este Webquest,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alumnos descubrirán cómo se forma la opinión pública sobre casos que proporcionará el profesor y expondrán sus conclusiones en cl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2"/>
          <p:cNvSpPr/>
          <p:nvPr/>
        </p:nvSpPr>
        <p:spPr>
          <a:xfrm>
            <a:off x="380880" y="133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dent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380880" y="990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3" action="ppaction://hlinksldjump"/>
              </a:rPr>
              <a:t>Ta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4" action="ppaction://hlinksldjump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5" action="ppaction://hlinksldjump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6" action="ppaction://hlinksldjump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 u="sng">
                <a:solidFill>
                  <a:srgbClr val="0c0c0c"/>
                </a:solidFill>
                <a:uFillTx/>
                <a:latin typeface="Calibri"/>
                <a:hlinkClick r:id="rId7" action="ppaction://hlinksldjump"/>
              </a:rPr>
              <a:t>Teacher Page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533520" y="530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8" action="ppaction://hlinksldjump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9" action="ppaction://hlinksldjump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0" action="ppaction://hlinksldjump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1" action="ppaction://hlinksldjump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2" action="ppaction://hlinksldjump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3" action="ppaction://hlinksldjump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Title 13" descr=""/>
          <p:cNvPicPr/>
          <p:nvPr/>
        </p:nvPicPr>
        <p:blipFill>
          <a:blip r:embed="rId14"/>
          <a:stretch/>
        </p:blipFill>
        <p:spPr>
          <a:xfrm>
            <a:off x="5022720" y="225360"/>
            <a:ext cx="4127760" cy="1152720"/>
          </a:xfrm>
          <a:prstGeom prst="rect">
            <a:avLst/>
          </a:prstGeom>
          <a:ln w="0">
            <a:noFill/>
          </a:ln>
        </p:spPr>
      </p:pic>
      <p:sp>
        <p:nvSpPr>
          <p:cNvPr id="432" name="TextBox 15"/>
          <p:cNvSpPr/>
          <p:nvPr/>
        </p:nvSpPr>
        <p:spPr>
          <a:xfrm>
            <a:off x="3429000" y="1905120"/>
            <a:ext cx="4343400" cy="300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Century Gothic"/>
              </a:rPr>
              <a:t>Noticieros Televis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15"/>
              </a:rPr>
              <a:t>http://www2.esmas.com/noticierostelevisa/mexico/df/093373/ebrard-y-pena-nieto-hecho-extraordinario-lluvias-del-doming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16"/>
              </a:rPr>
              <a:t>http://www.tvolucion.com/noticieros/noticiero-con-joaquin-lopez-doriga/042109/lopez-doriga-07-septiembre-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17"/>
              </a:rPr>
              <a:t>http://www.tvolucion.com/noticieros/noticias-y-reportajes/042113/pena-nieto-lluvia-evento-extraordinari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anal de Youtube de tsot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c0c0c"/>
                </a:solidFill>
                <a:uFillTx/>
                <a:latin typeface="Century Gothic"/>
                <a:hlinkClick r:id="rId18"/>
              </a:rPr>
              <a:t>http://www.youtube.com/watch?v=y8D92in5SU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al de Youtube de Luis 25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http://www.youtube.com/watch?v=SaMJ83_HM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16"/>
          <p:cNvSpPr/>
          <p:nvPr/>
        </p:nvSpPr>
        <p:spPr>
          <a:xfrm>
            <a:off x="3429000" y="556272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iseño de la presentación Lindsey Gillet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Box 2"/>
          <p:cNvSpPr/>
          <p:nvPr/>
        </p:nvSpPr>
        <p:spPr>
          <a:xfrm>
            <a:off x="380880" y="1332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dent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380880" y="9907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1" action="ppaction://hlinksldjump"/>
              </a:rPr>
              <a:t>Tit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5"/>
          <p:cNvSpPr/>
          <p:nvPr/>
        </p:nvSpPr>
        <p:spPr>
          <a:xfrm>
            <a:off x="380880" y="1325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c0c0c"/>
                </a:solidFill>
                <a:uFillTx/>
                <a:latin typeface="Calibri"/>
                <a:hlinkClick r:id="rId2" action="ppaction://hlinksldjump"/>
              </a:rPr>
              <a:t>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6"/>
          <p:cNvSpPr/>
          <p:nvPr/>
        </p:nvSpPr>
        <p:spPr>
          <a:xfrm>
            <a:off x="380880" y="16653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7"/>
          <p:cNvSpPr/>
          <p:nvPr/>
        </p:nvSpPr>
        <p:spPr>
          <a:xfrm>
            <a:off x="380880" y="20113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8"/>
          <p:cNvSpPr/>
          <p:nvPr/>
        </p:nvSpPr>
        <p:spPr>
          <a:xfrm>
            <a:off x="380880" y="23511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val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9"/>
          <p:cNvSpPr/>
          <p:nvPr/>
        </p:nvSpPr>
        <p:spPr>
          <a:xfrm>
            <a:off x="380880" y="26971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lu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11"/>
          <p:cNvSpPr/>
          <p:nvPr/>
        </p:nvSpPr>
        <p:spPr>
          <a:xfrm>
            <a:off x="380880" y="63244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red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12"/>
          <p:cNvSpPr/>
          <p:nvPr/>
        </p:nvSpPr>
        <p:spPr>
          <a:xfrm>
            <a:off x="380880" y="378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Teacher Page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"/>
          <p:cNvSpPr/>
          <p:nvPr/>
        </p:nvSpPr>
        <p:spPr>
          <a:xfrm>
            <a:off x="0" y="0"/>
            <a:ext cx="2438280" cy="6858000"/>
          </a:xfrm>
          <a:prstGeom prst="rect">
            <a:avLst/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380880" y="1332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alibri"/>
              </a:rPr>
              <a:t>Lámina del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12"/>
          <p:cNvSpPr/>
          <p:nvPr/>
        </p:nvSpPr>
        <p:spPr>
          <a:xfrm>
            <a:off x="533520" y="5302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en-US" sz="1400" spc="-1" strike="noStrike">
                <a:solidFill>
                  <a:srgbClr val="595959"/>
                </a:solidFill>
                <a:latin typeface="Calibri"/>
              </a:rPr>
              <a:t>Lámina del Maestro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3"/>
          <p:cNvSpPr/>
          <p:nvPr/>
        </p:nvSpPr>
        <p:spPr>
          <a:xfrm>
            <a:off x="228600" y="838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Formación de la 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533520" y="14778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ntro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6"/>
          <p:cNvSpPr/>
          <p:nvPr/>
        </p:nvSpPr>
        <p:spPr>
          <a:xfrm>
            <a:off x="533520" y="18176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Box 7"/>
          <p:cNvSpPr/>
          <p:nvPr/>
        </p:nvSpPr>
        <p:spPr>
          <a:xfrm>
            <a:off x="533520" y="21636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roc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Box 8"/>
          <p:cNvSpPr/>
          <p:nvPr/>
        </p:nvSpPr>
        <p:spPr>
          <a:xfrm>
            <a:off x="533520" y="25034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valu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Box 9"/>
          <p:cNvSpPr/>
          <p:nvPr/>
        </p:nvSpPr>
        <p:spPr>
          <a:xfrm>
            <a:off x="533520" y="28494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lu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533520" y="64771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rédi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3352680" y="259092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Formación de la opinión pública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 alumno identificará asuntos de la Esfera pública, de la esfera social y de la esfera privada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Reconocerá la forma como influye la comunicación en este proceso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Title 16" descr=""/>
          <p:cNvPicPr/>
          <p:nvPr/>
        </p:nvPicPr>
        <p:blipFill>
          <a:blip r:embed="rId3"/>
          <a:stretch/>
        </p:blipFill>
        <p:spPr>
          <a:xfrm>
            <a:off x="4035600" y="146160"/>
            <a:ext cx="51148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1:29:01Z</dcterms:created>
  <dc:creator>James</dc:creator>
  <dc:description/>
  <dc:language>en-US</dc:language>
  <cp:lastModifiedBy>UCEM2009</cp:lastModifiedBy>
  <dcterms:modified xsi:type="dcterms:W3CDTF">2009-09-08T23:23:30Z</dcterms:modified>
  <cp:revision>89</cp:revision>
  <dc:subject/>
  <dc:title>Slide 1</dc:title>
</cp:coreProperties>
</file>